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CD5-DD08-48A5-823A-F4CC6568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CBA-3B7B-4D69-8D41-FFAB787C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BEF-1FBF-40C4-8A3C-7037CC92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218-B597-4CFB-ACBF-9312417A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200-88EC-454F-9154-3298314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00D-3A32-498B-86C3-26BE4E6C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89F-2646-4BF2-9CBE-20D2D18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943-B08B-4331-8828-0B9EADE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1AB-77C9-4AF7-B21F-C0B3A54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862-5132-4B14-9233-078CEC1D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F27-1876-422A-A53C-F29AF922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686-892D-4219-B61A-1BEA86E0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15B1-8346-4C8C-AD0A-D4D67B4C4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052640"/>
            <a:ext cx="6840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DAL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UXILIARIES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324000" y="404640"/>
            <a:ext cx="8208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Son verbos especiales. No se pueden conjugar en todos los tiempos y tampoco tienen infinitiv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La tercera persona del singular del presente no lleva "s"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W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leep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on the flo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typ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a l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Van siempre seguidos de infinitivo sin "to"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b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is m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he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clean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their ro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tay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29040" y="-720"/>
            <a:ext cx="128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07920"/>
          <a:ext cx="8564760" cy="1081080"/>
        </p:xfrm>
        <a:graphic>
          <a:graphicData uri="http://schemas.openxmlformats.org/drawingml/2006/table">
            <a:tbl>
              <a:tblPr/>
              <a:tblGrid>
                <a:gridCol w="2376720"/>
                <a:gridCol w="3024000"/>
                <a:gridCol w="31640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not / ca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sujeto + infinitivo 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44"/>
          <p:cNvSpPr/>
          <p:nvPr/>
        </p:nvSpPr>
        <p:spPr>
          <a:xfrm>
            <a:off x="250920" y="2059920"/>
            <a:ext cx="8280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can                   -- No, I can’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i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you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puedo ir contig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swim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Sé nada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mi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come i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¿Puedo entrar?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6"/>
          <p:cNvSpPr/>
          <p:nvPr/>
        </p:nvSpPr>
        <p:spPr>
          <a:xfrm>
            <a:off x="2627280" y="35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Rectángulo"/>
          <p:cNvSpPr/>
          <p:nvPr/>
        </p:nvSpPr>
        <p:spPr>
          <a:xfrm>
            <a:off x="2500200" y="2858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U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2120" y="1428840"/>
          <a:ext cx="8778960" cy="1179360"/>
        </p:xfrm>
        <a:graphic>
          <a:graphicData uri="http://schemas.openxmlformats.org/drawingml/2006/table">
            <a:tbl>
              <a:tblPr/>
              <a:tblGrid>
                <a:gridCol w="2475000"/>
                <a:gridCol w="2946600"/>
                <a:gridCol w="335736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not / could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+ sujeto + infinitivo 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4 Rectángulo"/>
          <p:cNvSpPr/>
          <p:nvPr/>
        </p:nvSpPr>
        <p:spPr>
          <a:xfrm>
            <a:off x="285840" y="2714760"/>
            <a:ext cx="864396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 go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n’t go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 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could                   -- No, I couldn’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asado de CA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n’t go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you </a:t>
            </a:r>
            <a:r>
              <a:rPr b="0" i="1" lang="en-GB" sz="2800" spc="-1" strike="noStrike">
                <a:solidFill>
                  <a:srgbClr val="333300"/>
                </a:solidFill>
                <a:latin typeface="Arial"/>
                <a:ea typeface="Times New Roman"/>
              </a:rPr>
              <a:t>(No pude ir contig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 swim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333300"/>
                </a:solidFill>
                <a:latin typeface="Arial"/>
                <a:ea typeface="Times New Roman"/>
              </a:rPr>
              <a:t>(Sabía nad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708360" y="125280"/>
            <a:ext cx="162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U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7280" y="907920"/>
          <a:ext cx="8856720" cy="731880"/>
        </p:xfrm>
        <a:graphic>
          <a:graphicData uri="http://schemas.openxmlformats.org/drawingml/2006/table">
            <a:tbl>
              <a:tblPr/>
              <a:tblGrid>
                <a:gridCol w="2068560"/>
                <a:gridCol w="3448080"/>
                <a:gridCol w="334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 not / must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sujeto + infinitivo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44"/>
          <p:cNvSpPr/>
          <p:nvPr/>
        </p:nvSpPr>
        <p:spPr>
          <a:xfrm>
            <a:off x="0" y="1969200"/>
            <a:ext cx="88930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 go      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n’t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Must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g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must                   -- No, I mustn’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 study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Debo estudiar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 negativ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hibi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You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n't ope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the windo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debes/puedes abrir la ventan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Rectángulo"/>
          <p:cNvSpPr/>
          <p:nvPr/>
        </p:nvSpPr>
        <p:spPr>
          <a:xfrm>
            <a:off x="3286080" y="35712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HOU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1357200"/>
          <a:ext cx="8778960" cy="1179720"/>
        </p:xfrm>
        <a:graphic>
          <a:graphicData uri="http://schemas.openxmlformats.org/drawingml/2006/table">
            <a:tbl>
              <a:tblPr/>
              <a:tblGrid>
                <a:gridCol w="2475000"/>
                <a:gridCol w="2946600"/>
                <a:gridCol w="3357360"/>
              </a:tblGrid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not / should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+ sujeto + infinitivo 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3 Rectángulo"/>
          <p:cNvSpPr/>
          <p:nvPr/>
        </p:nvSpPr>
        <p:spPr>
          <a:xfrm>
            <a:off x="285840" y="2550960"/>
            <a:ext cx="8429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 go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n’t go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should                   -- No, I shouldn’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para dar consejo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1071720" y="48578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You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n’t go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him </a:t>
            </a:r>
            <a:r>
              <a:rPr b="0" i="1" lang="en-GB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(No debes/deberías ir con  é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h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 swim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(Debe/debería nad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0" y="908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II in the blanks with A MODAL VERB affirmative or nega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Britain, you _________ driv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We ___________ buy some food. We've got nothing for dinn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. My mother says I_________ go out tonight. I _________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This wasn’t a secret. You _______ tell everybody last wee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 Mary __________ go to the doctor if she wants to go to the par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3564000" y="404640"/>
            <a:ext cx="20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acti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11280" y="187308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n Britain,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iv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W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y some food. We've got nothing for dinn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4. My mother says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out tonight.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This wasn’t a secret.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everybody last wee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3419640" y="54936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SW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571680" y="40006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 Mar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o to the doctor if she wants to go to the par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3:49:55Z</dcterms:created>
  <dc:creator>rmi</dc:creator>
  <dc:description/>
  <dc:language>en-US</dc:language>
  <cp:lastModifiedBy>mcc</cp:lastModifiedBy>
  <dcterms:modified xsi:type="dcterms:W3CDTF">2011-02-18T10:21:02Z</dcterms:modified>
  <cp:revision>10</cp:revision>
  <dc:subject/>
  <dc:title>Diapositiva 1</dc:title>
</cp:coreProperties>
</file>